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2.png" ContentType="image/png"/>
  <Override PartName="/ppt/media/image23.png" ContentType="image/png"/>
  <Override PartName="/ppt/media/image60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9036-3E1F-4361-A9D4-F155FD33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76A3-96FD-4183-BDED-27441051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0195-C1E5-4CF1-A94A-87FD5BF01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A4C9-66EA-4BC4-A070-3AF296FD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9D42-61B4-4BAB-B427-FD52C1BE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6D90-DF1E-42CA-B4A7-7F83D859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D669-8F32-42AA-A402-C2DB25E8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3260-FE7C-486A-80A8-10162EF4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3AA7-CFF5-49EB-A0B3-16AF0E35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D013-643A-4952-A318-90D7308D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1FBB-628D-4B0A-90BA-C75CD211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F074-4B94-401B-9AB3-DA9E423D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6E4C-67D7-4237-8A15-11947D255C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6858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章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PLC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基本指令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1143000" y="1751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1  PLC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的基本知识与手持编程器的使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43560" y="297072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3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串并联指令、置位指令与自锁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2760" y="419004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5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块指令与点动自锁混合控制和多地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9960" y="472320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6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延时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50400" y="358020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4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脉冲指令与正反转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9960" y="579024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8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计数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54200" y="5256720"/>
            <a:ext cx="15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7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堆栈、主控指令与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－△形启动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88840" y="236124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2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点动控制程序与编程软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810880" y="487080"/>
            <a:ext cx="2974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3.1.3  PLC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控制系统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980000"/>
            <a:ext cx="8229600" cy="34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控制系统硬件简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电器控制系统是由大量的硬件继电器组成，结构复杂。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系统主要是由程序（软继电器）组成，在硬件连接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只需要接入输入信号和受控对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控制功能强大，修改方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电器控制系统的功能是通过器件连线实现的，控制功能相对简单，并且不易改变。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功能是由计算机软件实现的，不但具有强大的逻辑计算控制功能，而且可以根据工艺需要方便地修改控制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系统稳定、维护容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性能指标高，故障率低，抗干扰性强，能在工业生产环境下长期稳定工作。据统计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系统的电气故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以上发生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外部电路。当电路发生故障时，可根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出端口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判断产生故障的部位，以便迅速排除故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57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5732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0304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4800600" cy="4037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3880" y="5562720"/>
            <a:ext cx="27432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4  PL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硬件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7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5732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62520" y="396360"/>
            <a:ext cx="2579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3.1.4  PLC</a:t>
            </a: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的硬件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1447200"/>
            <a:ext cx="26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 CPU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逻辑运算和控制指挥中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265140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存储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固化着系统程序，存储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A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存放用户程序和工作数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1752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源将外部电能转换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部器件使用的各种电压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5470200"/>
            <a:ext cx="23623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接口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与外设进行交换信息和写入程序的通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467480" cy="3295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346040" y="349200"/>
            <a:ext cx="1047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输入接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4520" y="975240"/>
            <a:ext cx="38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入接口用来完成输入信号的引入、滤波及电平转换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43840" y="5333400"/>
            <a:ext cx="21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 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接口电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65160" y="577800"/>
            <a:ext cx="1047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输出接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848720" cy="2425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42560" y="4494960"/>
            <a:ext cx="18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 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接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838080" y="1371600"/>
          <a:ext cx="7391520" cy="4753440"/>
        </p:xfrm>
        <a:graphic>
          <a:graphicData uri="http://schemas.openxmlformats.org/drawingml/2006/table">
            <a:tbl>
              <a:tblPr/>
              <a:tblGrid>
                <a:gridCol w="808200"/>
                <a:gridCol w="1048680"/>
                <a:gridCol w="2012040"/>
                <a:gridCol w="1760400"/>
                <a:gridCol w="1762200"/>
              </a:tblGrid>
              <a:tr h="726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项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继电器输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晶体管输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晶闸管输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负载电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250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以下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30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以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 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 8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路绝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机械绝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光电耦合绝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光电耦合绝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负载电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A/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A/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公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A/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A/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A/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A/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断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m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以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m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以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m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以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m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以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2645640" y="685080"/>
            <a:ext cx="34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接口电路的规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67192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71360" y="758880"/>
            <a:ext cx="4985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3.1.5  FX</a:t>
            </a:r>
            <a:r>
              <a:rPr b="1" lang="zh-CN" sz="2400" spc="-1" strike="noStrike" baseline="-30000">
                <a:solidFill>
                  <a:srgbClr val="cc0000"/>
                </a:solidFill>
                <a:latin typeface="Times New Roman MT Extra Bold"/>
                <a:ea typeface="黑体"/>
              </a:rPr>
              <a:t>2N</a:t>
            </a: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系列</a:t>
            </a: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PLC</a:t>
            </a: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基本单元的型号与端子排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21640" y="1553760"/>
            <a:ext cx="3912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基本单元的型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6629400" cy="1824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14400" y="51660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例如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2N-16M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示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列的基本单元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总接口数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继电器输出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88160" y="334440"/>
            <a:ext cx="40957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系列基本单元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I/O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端子的排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4648320" cy="2698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5257800" cy="2690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248520" y="1447200"/>
            <a:ext cx="21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8  FX2N-16M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端子排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4996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9  FX2N-32M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端子排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1720" y="36576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输出端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305920" cy="2265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239280" y="36568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1 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接口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3880" y="4510440"/>
            <a:ext cx="702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例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2N-48M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组情况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3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M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3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M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M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787120" y="563040"/>
            <a:ext cx="3356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1.6  PLC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的循环扫描工作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2409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102120" y="3656880"/>
            <a:ext cx="25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2 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循环扫描工作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7848720" y="57150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45406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程序执行和输出刷新阶段，即使输入状态发生变化，程序也不读入新的输入数据，这样增强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抗干扰能力和程序执行的可靠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57920" y="410760"/>
            <a:ext cx="2859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3.2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点动控制程序与编程软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24480" y="1020240"/>
            <a:ext cx="3738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2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输入继电器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和输出继电器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724640" cy="1042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421440" y="304740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软继电器的线圈和接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1320" y="3504600"/>
            <a:ext cx="15278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输入继电器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409896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输入继电器以八进制进行编号，地址范围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6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）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55360" y="4937400"/>
            <a:ext cx="15278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输出继电器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562284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输出继电器也是八进制编号，地址范围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26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）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1219320" y="53244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1  PLC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的基本知识与手持编程器的使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19840" y="1065960"/>
            <a:ext cx="243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2N-16M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产品的外形、内部结构和面板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5334120" cy="4840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705720" y="547056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X2N-16M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编程序控制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098800" y="334440"/>
            <a:ext cx="54097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2.2    LD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LDI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OUT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END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指令及其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30640" y="1218600"/>
            <a:ext cx="41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05120"/>
          <a:ext cx="7848720" cy="3657600"/>
        </p:xfrm>
        <a:graphic>
          <a:graphicData uri="http://schemas.openxmlformats.org/drawingml/2006/table">
            <a:tbl>
              <a:tblPr/>
              <a:tblGrid>
                <a:gridCol w="1143000"/>
                <a:gridCol w="1959120"/>
                <a:gridCol w="2103120"/>
                <a:gridCol w="1563840"/>
                <a:gridCol w="1079640"/>
              </a:tblGrid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记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辑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功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电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路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元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程序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取常开接点状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开接点与左母线连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取常闭接点状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闭接点与左母线连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线圈输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驱动线圈输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程序结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412000" y="456120"/>
            <a:ext cx="4587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2.3  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应用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编程软件编写点动控制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142280"/>
            <a:ext cx="76960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点动控制线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动机的点动控制要求是：按下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电动机运转；松开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电动机停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010640" cy="3814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453040" y="6247800"/>
            <a:ext cx="36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动控制线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线图和程序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91280" y="365400"/>
            <a:ext cx="50068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运行三菱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编程软件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SWOPC-FXGP/WIN-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238880" cy="1174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162240" y="236160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初始启动画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5715000" cy="3387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086600" y="4327560"/>
            <a:ext cx="13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类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229600" cy="5248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482280" y="594288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编辑的主界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191120" cy="858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798880" y="4564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输入对话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0" t="7154" r="0" b="4204"/>
          <a:stretch/>
        </p:blipFill>
        <p:spPr>
          <a:xfrm>
            <a:off x="228600" y="1295280"/>
            <a:ext cx="8153280" cy="1711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001320" y="3123360"/>
            <a:ext cx="21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梯形图输入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7925040" cy="1935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696400" y="5942880"/>
            <a:ext cx="21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梯形图输入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2587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382200" y="3047400"/>
            <a:ext cx="21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梯形图输入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09480" y="3581280"/>
            <a:ext cx="6705720" cy="2530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467480" y="46627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梯形图转换为指令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10680" y="351000"/>
            <a:ext cx="20062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用户程序写入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P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6095880" cy="2627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858000" y="1659960"/>
            <a:ext cx="180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传送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14400" y="3809880"/>
            <a:ext cx="4191120" cy="2170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690520" y="5409360"/>
            <a:ext cx="27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传送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93560" y="365400"/>
            <a:ext cx="19072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运行程序或停止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001000" cy="2084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43120" y="3245760"/>
            <a:ext cx="20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运行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3733920" cy="1947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936680" y="5562000"/>
            <a:ext cx="20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运行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34480" y="380520"/>
            <a:ext cx="11455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程序监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6213" r="0" b="0"/>
          <a:stretch/>
        </p:blipFill>
        <p:spPr>
          <a:xfrm>
            <a:off x="228600" y="914400"/>
            <a:ext cx="8534520" cy="2076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543120" y="3245760"/>
            <a:ext cx="20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监控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8382240" cy="2054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412800" y="6095160"/>
            <a:ext cx="20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3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监控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1880" y="6248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948480" y="30384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3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串并联指令、置位指令与自锁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1600200"/>
          <a:ext cx="9144000" cy="1433520"/>
        </p:xfrm>
        <a:graphic>
          <a:graphicData uri="http://schemas.openxmlformats.org/drawingml/2006/table">
            <a:tbl>
              <a:tblPr/>
              <a:tblGrid>
                <a:gridCol w="1550880"/>
                <a:gridCol w="1554120"/>
                <a:gridCol w="2416320"/>
                <a:gridCol w="2403360"/>
                <a:gridCol w="121932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记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辑功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电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路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元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串联一个常开接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串联一个常闭接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2367720" y="715680"/>
            <a:ext cx="3741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3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接点串联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AND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29080" y="1218600"/>
            <a:ext cx="35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3123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阅读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3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梯形图，分析其逻辑关系，并写出对应的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762012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714040" y="410760"/>
            <a:ext cx="2893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1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一个简单的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控制例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38240" y="1065960"/>
            <a:ext cx="536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要求：按下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亮，松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灭。控制线路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4419720" cy="3763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94760" y="5866560"/>
            <a:ext cx="25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简单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接线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0" y="1371600"/>
          <a:ext cx="9144000" cy="1143000"/>
        </p:xfrm>
        <a:graphic>
          <a:graphicData uri="http://schemas.openxmlformats.org/drawingml/2006/table">
            <a:tbl>
              <a:tblPr/>
              <a:tblGrid>
                <a:gridCol w="1366920"/>
                <a:gridCol w="1366920"/>
                <a:gridCol w="2668320"/>
                <a:gridCol w="2522520"/>
                <a:gridCol w="12193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  记 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 辑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电 路 表 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作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 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并联一个常开接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或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并联一个常闭接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2650320" y="105840"/>
            <a:ext cx="3558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3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接点并联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OR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81000" y="837360"/>
            <a:ext cx="34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7848720" cy="25844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28033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 编写一个自锁控制程序。启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停止按钮分别接输入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端口，负载接触器接输出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端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0" y="2133720"/>
          <a:ext cx="9144000" cy="1279440"/>
        </p:xfrm>
        <a:graphic>
          <a:graphicData uri="http://schemas.openxmlformats.org/drawingml/2006/table">
            <a:tbl>
              <a:tblPr/>
              <a:tblGrid>
                <a:gridCol w="1512720"/>
                <a:gridCol w="2632320"/>
                <a:gridCol w="2631960"/>
                <a:gridCol w="2367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通  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停电保持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（可用程序变更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停电保持专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（不可变更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特  殊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02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0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80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8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3188520" y="137880"/>
            <a:ext cx="23446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3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辅助继电器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8830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辅助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作用类似于中间继电器。辅助继电器也有常开和常闭接点，但是不能直接驱动外部负载，外部负载只能用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驱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58080" y="1599480"/>
            <a:ext cx="38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辅助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元件编号与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3808440"/>
            <a:ext cx="8534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运行监控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转时始终保持接通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0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初始脉冲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由停止状态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转为运转状态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的瞬时接通一个扫描周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m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波振荡时钟信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0m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波振荡时钟信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1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波振荡时钟信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1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mi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波振荡时钟信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零标记。加减运算结果为零时状态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否则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F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全部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禁止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F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0" y="1143000"/>
          <a:ext cx="9144000" cy="1919160"/>
        </p:xfrm>
        <a:graphic>
          <a:graphicData uri="http://schemas.openxmlformats.org/drawingml/2006/table">
            <a:tbl>
              <a:tblPr/>
              <a:tblGrid>
                <a:gridCol w="1154160"/>
                <a:gridCol w="1601640"/>
                <a:gridCol w="1892520"/>
                <a:gridCol w="1828800"/>
                <a:gridCol w="26668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记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 辑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电 路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作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 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置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线圈保持接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特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清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线圈保持断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特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特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989080" y="137160"/>
            <a:ext cx="3393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3.4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置位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SET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复位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09600" y="685080"/>
            <a:ext cx="35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3246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 用置位指令与复位指令编写具有自锁功能的程序。启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停止按钮分别接输入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端口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输出端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53452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337120" y="151200"/>
            <a:ext cx="4577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3.5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三相电动机自锁控制线路与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17920" y="68508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0" y="1066680"/>
          <a:ext cx="9144000" cy="1828800"/>
        </p:xfrm>
        <a:graphic>
          <a:graphicData uri="http://schemas.openxmlformats.org/drawingml/2006/table">
            <a:tbl>
              <a:tblPr/>
              <a:tblGrid>
                <a:gridCol w="1782720"/>
                <a:gridCol w="1782720"/>
                <a:gridCol w="1782720"/>
                <a:gridCol w="1662120"/>
                <a:gridCol w="213372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入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元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过载保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交流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9480" y="2971800"/>
            <a:ext cx="8077320" cy="29304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918520" y="60192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3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动机自锁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6019920" cy="5562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147120" y="609516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3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动机自锁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620880" y="227520"/>
            <a:ext cx="18342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3.6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问题解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86832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在继电器控制线路中，停止按钮使用常闭触头。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线路中，停止按钮是使用常闭触头还是使用常开触头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52280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答：停止按钮使用常开触头的程序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3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，停止按钮使用常闭触头的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3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8534520" cy="2386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705040" y="4799880"/>
            <a:ext cx="31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3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停止按钮使用不同触头的程序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56376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在生产设备中停止按钮要用常闭触头。同理，过载保护也应使用热继电器的常闭触头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62120" y="1402560"/>
            <a:ext cx="74674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线路中，热继电器的常闭触头是与接触器线圈串联还是占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一个输入端口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32310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答：虽然热继电器的常闭触头与接触器线圈串联可以节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一个输入端口，但在实际设备中，往往将多个热继电器的常闭触头串联，共同占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一个输入端口，并用这个端口联锁控制整个程序。因此，热继电器的常闭触头应占用一个输入端口为宜。在本书中，为了方便读者分析程序主要语句，有时也采用热继电器的常闭触头与接触器线圈串联的方式，即热继电器的常闭触头与程序无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077320" y="59436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841120" y="30384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4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脉冲指令与正反转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0" y="2209680"/>
          <a:ext cx="9144000" cy="1660320"/>
        </p:xfrm>
        <a:graphic>
          <a:graphicData uri="http://schemas.openxmlformats.org/drawingml/2006/table">
            <a:tbl>
              <a:tblPr/>
              <a:tblGrid>
                <a:gridCol w="1219320"/>
                <a:gridCol w="1469880"/>
                <a:gridCol w="2873520"/>
                <a:gridCol w="2666880"/>
                <a:gridCol w="914400"/>
              </a:tblGrid>
              <a:tr h="37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记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辑功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电 路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作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脉冲上升沿检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元件接点闭合时接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扫描周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脉冲下降沿检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元件接点断开时接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扫描周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2705040" y="1599480"/>
            <a:ext cx="35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P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44946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脉冲上升沿、下降沿逻辑“取”指令的使用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P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监视元件的接通状态，即只在操作元件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FF→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时产生一个扫描周期的接通脉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F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监视元件的断开状态，即只在操作元件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→OF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时产生一个扫描周期的接通脉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720" y="944280"/>
            <a:ext cx="5127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4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脉冲上升沿、下降沿“取”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LDP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L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53388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某台设备有两台电动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交流接触器分别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输出端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启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停止按钮分别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输入端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为了减小两台电动机同时启动对供电线路的影响，让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延迟启动。控制要求是：按下启动按钮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，延缓几秒钟后，松开启动按钮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启动；按下停止按钮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同时停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95280" y="2701800"/>
            <a:ext cx="7162920" cy="3535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397680" y="6323760"/>
            <a:ext cx="197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3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87380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根据控制要求，启动第一台电动机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启动第二台电动机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程序梯形图和指令表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3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01000" cy="31258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04920" y="4418280"/>
            <a:ext cx="8534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程序工作原理如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下启动按钮时，输入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常开接点闭合，指令语句 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  LDP  X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第一个扫描周期内控制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电自锁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松开启动按钮的瞬间，输入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常开接点断开，指令语句“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  LDF  X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其后的第一个扫描周期内控制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电自锁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下停止按钮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均断电解除自锁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电停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95680" y="3733200"/>
            <a:ext cx="21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3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01000" cy="210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" y="42660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下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常开接点闭合，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通电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常开接点闭合，负载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电。松开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电。程序具有点动控制功能。该梯形图对应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指令语句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1219320"/>
          <a:ext cx="9143640" cy="21906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3880"/>
                <a:gridCol w="1524240"/>
                <a:gridCol w="1523880"/>
                <a:gridCol w="152388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入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出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过载保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正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正转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转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2246400" y="151200"/>
            <a:ext cx="4760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4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三相电动机正反转控制线路与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65640" y="76140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43120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要求：不通过停止按钮，直接按正反转按钮就可改变转向，因此需要采用按钮联锁。为了减轻变换瞬间反向电流对电动机的冲击，适当延长变换过程，即按下正转按钮时，先停止反转，延缓片刻松开正转按钮时，再接通正转，反转过程同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rcRect l="0" t="0" r="0" b="2600"/>
          <a:stretch/>
        </p:blipFill>
        <p:spPr>
          <a:xfrm>
            <a:off x="1219320" y="228600"/>
            <a:ext cx="6400800" cy="556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116520" y="609516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3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动机正反转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6629400" cy="4892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497760" y="586656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动机正反转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077320" y="59436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435040" y="37980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5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块指令与点动自锁混合控制和多地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209680"/>
          <a:ext cx="9144000" cy="730440"/>
        </p:xfrm>
        <a:graphic>
          <a:graphicData uri="http://schemas.openxmlformats.org/drawingml/2006/table">
            <a:tbl>
              <a:tblPr/>
              <a:tblGrid>
                <a:gridCol w="1447920"/>
                <a:gridCol w="1600200"/>
                <a:gridCol w="2819160"/>
                <a:gridCol w="1981440"/>
                <a:gridCol w="12952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  记 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 辑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电 路 表 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作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 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块的串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点后串联一个电路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2410200" y="989640"/>
            <a:ext cx="40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5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电路块操作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ANB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O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3579840"/>
            <a:ext cx="8610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块与”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使用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不带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两个或两个以上接点并联连接的电路称为并联电路块。当并联电路块与前面的电路串联连接时，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并联电路块的起点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并联结束后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表示与前面的电路串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多个电路块串联时，如分别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则串联电路块的数量没有限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也可以连续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但使用次数不能超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77040" y="167580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5940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阅读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的梯形图，分析其逻辑关系，并写出对应的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3402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梯形图的逻辑关系是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并联，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成的并联电路块串联，然后控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因此，要使用串联电路块指令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001000" cy="3213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764080" y="5866560"/>
            <a:ext cx="29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块与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举例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906560" y="349920"/>
            <a:ext cx="486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阅读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的梯形图，写出对应的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梯形图所对应的指令表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077320" cy="3375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221280" y="5790600"/>
            <a:ext cx="29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块与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举例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0" y="1143000"/>
          <a:ext cx="9146880" cy="730080"/>
        </p:xfrm>
        <a:graphic>
          <a:graphicData uri="http://schemas.openxmlformats.org/drawingml/2006/table">
            <a:tbl>
              <a:tblPr/>
              <a:tblGrid>
                <a:gridCol w="1296720"/>
                <a:gridCol w="1830600"/>
                <a:gridCol w="3114720"/>
                <a:gridCol w="1452600"/>
                <a:gridCol w="1452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记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辑功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电 路 表 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作元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 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块的并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点并联一个电路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2776680" y="608760"/>
            <a:ext cx="32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3046680"/>
            <a:ext cx="8381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块或”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使用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不带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两个或两个以上接点串联连接的电路称为串联电路块。当串联电路块与前面的电路并联连接时，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串联电路块的起点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串联结束后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表示与前面的电路并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多个电路块并联时，如分别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则并联电路块的数量没有限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也可以连续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但使用次数不得超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3520" y="608400"/>
            <a:ext cx="8305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阅读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的梯形图，分析其逻辑关系，并写出对应的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梯形图的逻辑关系是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串联形成的电路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串联形成电路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电路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电路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联后再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串联，然后控制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程序梯形图所对应的指令表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8077320" cy="33112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183840" y="6247800"/>
            <a:ext cx="242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块或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04920" y="22752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阅读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的梯形图，写出对应的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梯形图程序中使用了并联电路块形式和串联电路块形式，对应的指令表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381880" cy="35514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269160" y="5637960"/>
            <a:ext cx="16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块指令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763280" y="198720"/>
            <a:ext cx="30837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．“上重下轻”、“左重右轻”的编程规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85800" y="631800"/>
            <a:ext cx="7543800" cy="25862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7315200" cy="25084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304440" y="3245760"/>
            <a:ext cx="25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符合“上重下轻”编程规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32440" y="6247800"/>
            <a:ext cx="26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符合“上重下轻”编程规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38080" y="76068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手持编程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-20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的指令语句输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，操作步骤如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4760" y="1401480"/>
            <a:ext cx="1337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接通电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52480" y="2133720"/>
          <a:ext cx="5867640" cy="1095120"/>
        </p:xfrm>
        <a:graphic>
          <a:graphicData uri="http://schemas.openxmlformats.org/drawingml/2006/table">
            <a:tbl>
              <a:tblPr/>
              <a:tblGrid>
                <a:gridCol w="58676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GRAM  MODE  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编程模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■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INE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                       …在线编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LINE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PP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                      …离线编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1154160" y="3382560"/>
            <a:ext cx="1703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选择在线编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14400" y="4267080"/>
          <a:ext cx="6934320" cy="146052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INE  MODE       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在线模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T  FUNCTION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择功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  MODE                 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或模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M.   SETTING   8K                      …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内存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696440" cy="2640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7620120" cy="26128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186720" y="2818800"/>
            <a:ext cx="25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符合“左重右轻”编程规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03840" y="6171480"/>
            <a:ext cx="26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符合“左重右轻”编程规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-1440" y="1295280"/>
          <a:ext cx="9145440" cy="730440"/>
        </p:xfrm>
        <a:graphic>
          <a:graphicData uri="http://schemas.openxmlformats.org/drawingml/2006/table">
            <a:tbl>
              <a:tblPr/>
              <a:tblGrid>
                <a:gridCol w="2152800"/>
                <a:gridCol w="2154240"/>
                <a:gridCol w="2419200"/>
                <a:gridCol w="241920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交替输出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程  序  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66      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3174480" y="137880"/>
            <a:ext cx="2864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5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交替输出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81600" y="837360"/>
            <a:ext cx="321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543800" cy="17607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192840" y="403776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交替输出指令应用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1143000" y="4572000"/>
            <a:ext cx="6553080" cy="15447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457800" y="6247800"/>
            <a:ext cx="21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时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011760" y="379800"/>
            <a:ext cx="2442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5.3  PLC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多地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144648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多地控制是指在多个地方控制同一台电动机的启动与停止。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为两地控制一台电动机的输入端接线图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程序。两地启动按钮并联使用输入端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两地停止按钮并联使用输入端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端口上连接热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H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常闭触点；输出端口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8534520" cy="2193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116520" y="571428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多地控制接线图和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-4680" y="2666880"/>
          <a:ext cx="9148680" cy="2465640"/>
        </p:xfrm>
        <a:graphic>
          <a:graphicData uri="http://schemas.openxmlformats.org/drawingml/2006/table">
            <a:tbl>
              <a:tblPr/>
              <a:tblGrid>
                <a:gridCol w="1523880"/>
                <a:gridCol w="1525680"/>
                <a:gridCol w="1523880"/>
                <a:gridCol w="1525680"/>
                <a:gridCol w="1523880"/>
                <a:gridCol w="152568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元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元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控制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动机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动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过载保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2351520" y="151200"/>
            <a:ext cx="4394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5.4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点动自锁混合控制线路与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913680"/>
            <a:ext cx="84582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要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某生产设备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台电动机，除连续运行控制外，还需要用点动控制调整生产设备的状态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操作按钮分别是启动按钮、停止按钮和点动按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41960" y="213300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410080" cy="52326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269160" y="586656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动自锁混合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629400" cy="5318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330000" y="594288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动自锁组合控制线路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77320" y="59436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08760" y="37980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6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延时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0" y="1828800"/>
          <a:ext cx="9144000" cy="18255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定时器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编 号 范 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点 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计 时 范 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m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定时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6.7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m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定时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2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2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.67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m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累计定时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24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767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m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累计定时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25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6.7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3141360" y="791640"/>
            <a:ext cx="1910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6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定时器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30520" y="1370880"/>
            <a:ext cx="31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定时器分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" y="449424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时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使用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定时器是根据时钟脉冲累计计时的，时钟脉冲周期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m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m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0m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三种规格，定时器的工作过程实际上是对时钟脉冲计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定时器有一个设定值寄存器，一个当前值寄存器。这些寄存器都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（即数值范围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 76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计时时间为设定值乘以定时器的计时单位（时钟脉冲周期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每个定时器都有一个常开和常闭接点，这些接点可以无限次引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定时器满足计时条件时开始计时，定时时间到时其常开接点闭合，常闭接点断开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143720" y="837720"/>
            <a:ext cx="28760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普通定时器（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T0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T245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rcRect l="0" t="0" r="0" b="2175"/>
          <a:stretch/>
        </p:blipFill>
        <p:spPr>
          <a:xfrm>
            <a:off x="380880" y="1676520"/>
            <a:ext cx="8382240" cy="30700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3046680" y="5028480"/>
            <a:ext cx="247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普通定时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296000" y="1660680"/>
            <a:ext cx="31593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累计定时器（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T246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T255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292608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普通定时器不同的是，累计定时器在计时中途线圈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电时，当前值寄存器中的数据可以保持，当线圈重新通电时，当前值寄存器在原来数据的基础上继续计时，直到累计时间达到设定值，定时器动作。累计定时器的当前值寄存器数据只能用复位指令清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28600" y="5940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分析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梯形图程序的逻辑关系，写出对应的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01040" y="1280160"/>
            <a:ext cx="191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梯形图的逻辑关系是延时接通控制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772400" cy="34243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406320" y="586656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延时接通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4240" y="379800"/>
            <a:ext cx="3538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将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中存储的原用户程序清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21160" y="914040"/>
            <a:ext cx="18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D/W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键两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OP/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C/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键。手持编程器屏幕上显示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66680" y="2209680"/>
          <a:ext cx="6782040" cy="1460520"/>
        </p:xfrm>
        <a:graphic>
          <a:graphicData uri="http://schemas.openxmlformats.org/drawingml/2006/table">
            <a:tbl>
              <a:tblPr/>
              <a:tblGrid>
                <a:gridCol w="6782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   CLEAR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？                   …清除所有程序吗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K →     [GO]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是→按【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】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→    [CLEAR]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否→按【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EAR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】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3679200" y="3885840"/>
            <a:ext cx="16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按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】键，则清除用户存储的程序，手持编程器屏幕上显示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1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4495680"/>
          <a:ext cx="6933960" cy="1460520"/>
        </p:xfrm>
        <a:graphic>
          <a:graphicData uri="http://schemas.openxmlformats.org/drawingml/2006/table">
            <a:tbl>
              <a:tblPr/>
              <a:tblGrid>
                <a:gridCol w="69339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              0   NOP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空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 NOP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空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NOP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空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 NOP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空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4465440" y="3146760"/>
            <a:ext cx="20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64160" y="411372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95280" y="4572000"/>
            <a:ext cx="2286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28600" y="65448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分析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梯形图程序的逻辑关系，写出对应的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梯形图的逻辑关系是延时断开控制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rcRect l="0" t="0" r="0" b="4890"/>
          <a:stretch/>
        </p:blipFill>
        <p:spPr>
          <a:xfrm>
            <a:off x="533520" y="2286000"/>
            <a:ext cx="8229600" cy="28735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3177720" y="563796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延时断开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439440" y="289440"/>
            <a:ext cx="2199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6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脉冲产生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12178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特殊辅助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1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以分别产生占空比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/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脉冲周期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m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0m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mi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时钟信号，在需要可以直接应用。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的梯形图中，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1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接点控制辅助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8610480" cy="19843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752480" y="5104800"/>
            <a:ext cx="54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特殊辅助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80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80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波形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80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80880" y="12182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实际应用中也可以组成振荡电路产生任意周期的脉冲信号。例如，产生周期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5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脉冲持续时间为一个扫描周期的信号，梯形图和时序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8686800" cy="19670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2910240" y="4723560"/>
            <a:ext cx="284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产生周期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5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脉冲信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28600" y="4561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两个定时器产生一个占空比可调的任意周期的脉冲信号，脉冲信号的低电平时间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高电平时间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程序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848720" cy="2853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533520" y="4114800"/>
            <a:ext cx="4952880" cy="25052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477120" y="3977640"/>
            <a:ext cx="23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  产生脉冲信号的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00800" y="5699160"/>
            <a:ext cx="23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  产生脉冲信号程序中元件的时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0" y="2933640"/>
          <a:ext cx="9145440" cy="2374920"/>
        </p:xfrm>
        <a:graphic>
          <a:graphicData uri="http://schemas.openxmlformats.org/drawingml/2006/table">
            <a:tbl>
              <a:tblPr/>
              <a:tblGrid>
                <a:gridCol w="1419120"/>
                <a:gridCol w="1722600"/>
                <a:gridCol w="1571400"/>
                <a:gridCol w="1476720"/>
                <a:gridCol w="1477800"/>
                <a:gridCol w="14778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入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控 制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对 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过载保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2156040" y="151200"/>
            <a:ext cx="4943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6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三台电动机顺序启动控制线路和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103716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某机械设备有三台电动机，控制要求如下：按下启动按钮，第一台电动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；运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第二台电动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5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第三台电动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。按下停止按钮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台电动机全部停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442960" y="2133000"/>
            <a:ext cx="34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rcRect l="0" t="0" r="0" b="2799"/>
          <a:stretch/>
        </p:blipFill>
        <p:spPr>
          <a:xfrm>
            <a:off x="380880" y="228600"/>
            <a:ext cx="8610840" cy="49179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177720" y="579060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台电动机顺序启动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49543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330000" y="601920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台电动机顺序启动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077320" y="60199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682800" y="379800"/>
            <a:ext cx="15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7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堆栈、主控指令与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－△形启动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40520" y="990000"/>
            <a:ext cx="41058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7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进栈、读栈、出栈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MPS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MRD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MP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5486400" cy="48610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6553080" y="5333400"/>
            <a:ext cx="17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堆栈指令执行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0" y="1066680"/>
          <a:ext cx="9144000" cy="2284200"/>
        </p:xfrm>
        <a:graphic>
          <a:graphicData uri="http://schemas.openxmlformats.org/drawingml/2006/table">
            <a:tbl>
              <a:tblPr/>
              <a:tblGrid>
                <a:gridCol w="1297080"/>
                <a:gridCol w="1446120"/>
                <a:gridCol w="5105520"/>
                <a:gridCol w="12952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记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令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 辑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作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进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各级数据依次下移到下一级单元；当前运算结果送入堆栈第一级单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读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将堆栈第一级单元的数据送入运算器；各级数据位置不发生上移或下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将堆栈第一级单元的数据送入运算器，其他各级数据依次上移到上一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2478960" y="456480"/>
            <a:ext cx="39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R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418968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进栈、读栈、出栈指令的使用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P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P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应该成对使用，而且连续使用不能超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，否则数据溢出丢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P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R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P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时，如果其后是单个接点，需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；如果其后是电路块，则在电路块的始点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然后用块与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961640" y="442080"/>
            <a:ext cx="25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分析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6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的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153640" cy="50148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562200" y="632376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0720" y="532440"/>
            <a:ext cx="42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写入图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3.3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）所示的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步指令语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217520"/>
            <a:ext cx="8153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/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屏幕显示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  LD 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/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屏幕显示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  LD  X  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/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屏幕显示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  LD  X   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光标下移一行，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指令输入完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/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屏幕显示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  OUT 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I/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屏幕显示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  OUT  Y 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P/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屏幕显示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  OUT  Y 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光标下移一行，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指令输入完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ND/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屏幕显示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  END 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光标下移一行，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指令输入完毕。全部程序写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存储器，手持编程器屏幕上显示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5867280"/>
            <a:ext cx="114120" cy="1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380880" y="4603680"/>
          <a:ext cx="7696440" cy="1460520"/>
        </p:xfrm>
        <a:graphic>
          <a:graphicData uri="http://schemas.openxmlformats.org/drawingml/2006/table">
            <a:tbl>
              <a:tblPr/>
              <a:tblGrid>
                <a:gridCol w="76964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      0   LD     X    006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取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状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 OUT    Y    000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出到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END        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程序结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 NOP        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空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961640" y="380160"/>
            <a:ext cx="25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分析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6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的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305920" cy="5032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076800" y="586656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358000" y="684720"/>
            <a:ext cx="29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写出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6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的程序的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381880" cy="38991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2894760" y="5637960"/>
            <a:ext cx="26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使用二级堆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1219320"/>
          <a:ext cx="9144000" cy="10951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  记 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 令 名 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 辑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作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 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控开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控复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控结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"/>
          <p:cNvSpPr/>
          <p:nvPr/>
        </p:nvSpPr>
        <p:spPr>
          <a:xfrm>
            <a:off x="3458520" y="213840"/>
            <a:ext cx="240264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3.7.2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主控、主控复位指令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MC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MC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780640" y="761400"/>
            <a:ext cx="35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C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2835360"/>
            <a:ext cx="8534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主控、主控复位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使用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主控接点接通时，执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间的指令。主控接点断开，计数器、累积定时器，以及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/RS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驱动的元件保持当前状态，其余的均处在断开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执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后，左母线移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之后，所以要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；执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后返回到原来的母线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必须成对使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使用不同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件号，可以多次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主控指令可以嵌套，但最多不能超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级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嵌套级的编号顺次增大（按顺序由小到大），返回时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根据编号从大到小开始解除（按顺序由大到小）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987200" y="303840"/>
            <a:ext cx="235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分析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6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的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924680" cy="52387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467160" y="6095160"/>
            <a:ext cx="188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6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主控指令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3520" y="379800"/>
            <a:ext cx="84582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3.7.3  </a:t>
            </a: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实习操作：电动机</a:t>
            </a: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Y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-△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降压启动控制线路与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9896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控制要求如下：当按下启动按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电动机绕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连接启动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自动转为△形连接运行。当按下停上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电动机停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313360" y="198036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0" y="2438280"/>
          <a:ext cx="9144000" cy="29242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源接触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热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△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运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391160" cy="54547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2975040" y="6019200"/>
            <a:ext cx="31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7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电动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降压启动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y" descr=""/>
          <p:cNvPicPr/>
          <p:nvPr/>
        </p:nvPicPr>
        <p:blipFill>
          <a:blip r:embed="rId2"/>
          <a:stretch/>
        </p:blipFill>
        <p:spPr>
          <a:xfrm>
            <a:off x="2033640" y="339084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25040" cy="55594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2822760" y="6247800"/>
            <a:ext cx="31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8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电动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降压启动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y" descr=""/>
          <p:cNvPicPr/>
          <p:nvPr/>
        </p:nvPicPr>
        <p:blipFill>
          <a:blip r:embed="rId2"/>
          <a:stretch/>
        </p:blipFill>
        <p:spPr>
          <a:xfrm>
            <a:off x="2033640" y="339084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8077320" y="59436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385080" y="15120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8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计数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50000" y="609120"/>
            <a:ext cx="201852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3.8.1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普通计数器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42960" y="1065960"/>
            <a:ext cx="35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普通计数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类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0" y="1523880"/>
          <a:ext cx="9144000" cy="1782720"/>
        </p:xfrm>
        <a:graphic>
          <a:graphicData uri="http://schemas.openxmlformats.org/drawingml/2006/table">
            <a:tbl>
              <a:tblPr/>
              <a:tblGrid>
                <a:gridCol w="1503360"/>
                <a:gridCol w="1508040"/>
                <a:gridCol w="1712880"/>
                <a:gridCol w="1371600"/>
                <a:gridCol w="304812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计数器名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编 号 范 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点   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计 数 范 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计数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普通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掉电保持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增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计数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普通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748364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7483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掉电保持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2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748364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7483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152280" y="3688200"/>
            <a:ext cx="883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普通计数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使用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计数器的功能是对输入脉冲进行计数，计数发生在脉冲的上升沿，达到计数器设定值时，计数器接点动作。每个计数器都有一个常开和常闭接点，可以无限次引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计数器有一个设定值寄存器，一个当前值寄存器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计数器的设定值范围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276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增减计数器的设定值范围是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14748364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14748364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普通计数器在计数过程中发生断电，则前面所计的数值全部丢失，再次通电后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开始计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掉电保持计数器在计数过程中发生断电，则前面所计数值保存，再次通电后从原来数值的基础上继续计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计数器除了计数端外，还需要一个复位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增减计数器是循环计数方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984040" y="121680"/>
            <a:ext cx="36284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3.8.2  16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位增计数器（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C0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～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C199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619760" cy="54594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2346840" y="6323760"/>
            <a:ext cx="38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9  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增计数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监控程序与动作时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469880" y="227520"/>
            <a:ext cx="63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程序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，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保持接通后延时多长时间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能通电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34606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228600" y="51804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保持接通后，由定时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成的振荡电路开始工作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常开接点每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一次，使计数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当前值增加，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当前值增加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常开接点闭合，使控制对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。因此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延时时间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定时器的振荡周期值乘以计数器的设定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= 0.1×100×10=10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409920" y="441900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7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08440" y="334440"/>
            <a:ext cx="1337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运行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26396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方式开关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UN/ST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开关拨向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位置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置于程序运行状态，程序运行指令灯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62720" y="1858680"/>
            <a:ext cx="971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操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123000"/>
            <a:ext cx="8305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下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示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6/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亮，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电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松开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示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6/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灭，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电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的结果符合控制要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这个控制例子可以看出，一个完整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系统是由硬件和软件（用户程序）两部分组成。输入不同的用户程序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便具有不同的控制功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2280" y="45612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时器的计时时间都有一个最大值，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0m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定时器最大计时时间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76.7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如果所需要的延时时间大于最大值，可以采用计数器与定时器配合获得较长延时时间。在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7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的梯形图程序中，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保持接通后，经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时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.1s×18000×10 = 1800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延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接通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848360" cy="43448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306520" y="6323760"/>
            <a:ext cx="42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7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计数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定时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构成的长延时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187360" y="1020240"/>
            <a:ext cx="4833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8.3  32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位增减计数器（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C200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～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C234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28600" y="2318040"/>
            <a:ext cx="8610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增减计数器（又可称为双向计数器）有增计数和减计数两种工作方式，其计数方式由特殊辅助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2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2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状态决定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□□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状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减计数，状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F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者程序中不出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□□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增计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普通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增减计数器的工作过程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7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计数方式控制端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复位端 ，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计数信号输入端，控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2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计数器进行计数操作。计数器的当前值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加到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增大）时，其接点接通（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当计数器的当前值由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减到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（减小）时，其接点断开（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713560" cy="64771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6553080" y="2179080"/>
            <a:ext cx="152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7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增减计数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2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程序与动作时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77320" y="59436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202200" y="2666880"/>
            <a:ext cx="311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    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086600" y="57913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5" h="21600">
                <a:moveTo>
                  <a:pt x="13474" y="10800"/>
                </a:moveTo>
                <a:lnTo>
                  <a:pt x="23979" y="3794"/>
                </a:lnTo>
                <a:lnTo>
                  <a:pt x="23979" y="17806"/>
                </a:lnTo>
                <a:close/>
              </a:path>
              <a:path fill="darken" w="33945" h="21600">
                <a:moveTo>
                  <a:pt x="9966" y="3794"/>
                </a:moveTo>
                <a:lnTo>
                  <a:pt x="11628" y="3794"/>
                </a:lnTo>
                <a:lnTo>
                  <a:pt x="11628" y="17806"/>
                </a:lnTo>
                <a:lnTo>
                  <a:pt x="9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313080" y="487080"/>
            <a:ext cx="18507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1.2  PLC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的应用、分类及程序语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97280" y="1020240"/>
            <a:ext cx="22579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的主要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42600" y="1661040"/>
            <a:ext cx="18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开关量逻辑控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92600" y="1675440"/>
            <a:ext cx="172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模拟量控制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5800" y="2194560"/>
            <a:ext cx="15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多级控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6720" y="2208960"/>
            <a:ext cx="77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运动控制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440" y="2696760"/>
            <a:ext cx="1709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32480" y="342792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结构可分为整体式和模块式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02812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数小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为微型机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数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为小型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数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为中型机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数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以上为大型机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09932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输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出接口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口）总数的多少可分为微型机、小型机、中型机和大型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k</cp:lastModifiedBy>
  <dcterms:modified xsi:type="dcterms:W3CDTF">2009-09-25T02:00:03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